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FF0-E0DC-488F-90E7-F616F45FBBA8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ries = bigger than big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arallel = smaller than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os and cons of series vs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 using e-flash kits to determine thes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each resistor is 1000Ohms, what is current flow? I=0.004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one resistor is 500 Ohms and the other 1500, what is current flow? I=0.004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will the voltage across each be? 2.25V and 6.7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 using e-flash kits to determine thes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the resistance of each resistor? 4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the total R of circuit? 2.25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resistance would you need to get 1A in one branchand 3 in the other? 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nalogy of trucks and loads and 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oblem sheet of combination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-flash p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B No. 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estion : What two resistors could be used to run a 6V stereo off a 12V car batte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Loading problem – if load too small it draws too much current and then becomes parralel circuit with lower resistance – skews the output volt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ransmission lines – voltage always stepped up to reduce current and hence reduce the amount of energy lost as heat when transmitting over long di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ow to safely test if things are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uses, circuit breakers, RC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I if 100C of charge passes a point in 50 s? 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Sat am pancakes took 2 mins to cook using 5 A current. How many electrons were 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n Franklin kite flying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ifference between current flow and electron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lectrolysis – flow of positiv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no closed circuit then separation of charge only – static field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emo – Jacobs la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nalogy with trucks and 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nergy usage – turning it into another form eg light heat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g. Good conductor = metal. Why? Atomic structure of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s – R vs L, R v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B No.1,4,5 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ffect of temp on metals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 – Ohms Law using clay resistors or coil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-flash circuits to build using diodes, thermistors ld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re are also combinations of both series and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355D-9E35-4353-9375-5EA5AF90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581F-C46E-46D7-BC74-88EBDA68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F64C-315A-4782-9D6F-E467E624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EDFF-EDD6-4230-B15C-6AC13FCF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BAC-C248-4D6B-AEC9-B0EBAB33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9AF2-8BD6-4F5C-91F7-8AEE36EF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989-80C5-49B1-B485-169323E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BA2A-CE7E-4285-B5BC-150BC62B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D896-4941-4F1D-97C9-583AB16E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73B3-9B96-4AD9-B8D7-BBEC8068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9996-60B9-43BB-8655-7ADA034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2BFB-E102-4204-81B6-E6CFA03A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E834-0850-44F5-A037-DF245094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EF93-BC9E-4140-A7C5-40334955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A74B-F492-4A57-8CD4-EF215EFD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401E-385A-4453-83AD-757FE7DE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32EE-F925-4392-B781-2878EB76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3A2E-E407-43BE-A9EC-E701D688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0D0C-F0FE-4F5A-BA6B-D24BABC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3893-FD28-42BC-9D92-AD34DB2E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F57A-DE9F-46F6-87CD-A40673C1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D01E-17A1-4339-BF30-EE47552D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8F40-CBE2-4692-824B-56D431C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E4A9-A24B-45C0-910F-53E326F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FED-F893-4BC9-8EE0-6F968E3D0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6200" y="1311120"/>
            <a:ext cx="9351360" cy="5632560"/>
            <a:chOff x="-106200" y="1311120"/>
            <a:chExt cx="935136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5200" y="1642680"/>
              <a:ext cx="27691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40680" y="1791720"/>
              <a:ext cx="32277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5720" y="1904760"/>
              <a:ext cx="35658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70920" y="2038680"/>
              <a:ext cx="393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880" y="2220480"/>
              <a:ext cx="4398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620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50480" y="2691000"/>
              <a:ext cx="54028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9840" y="2959920"/>
              <a:ext cx="5952240" cy="972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4960" y="3261960"/>
              <a:ext cx="668268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2360" y="3636360"/>
              <a:ext cx="732240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9680" y="4156560"/>
              <a:ext cx="82558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1160" y="4575240"/>
              <a:ext cx="857520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0160" y="4650480"/>
              <a:ext cx="7322400" cy="936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2680" y="4876920"/>
              <a:ext cx="567792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04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40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4360" y="3749400"/>
              <a:ext cx="959904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7160" y="5393880"/>
              <a:ext cx="657612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4960" y="5755680"/>
              <a:ext cx="445176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712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5960" y="5115960"/>
              <a:ext cx="869616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5040" y="3382200"/>
              <a:ext cx="955152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3840" y="3091680"/>
              <a:ext cx="91386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0400" y="2863440"/>
              <a:ext cx="869256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2800" y="2514240"/>
              <a:ext cx="790056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8240" y="2346120"/>
              <a:ext cx="755568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1720" y="2188440"/>
              <a:ext cx="723492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7280" y="2074680"/>
              <a:ext cx="6849360" cy="936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6480" y="1936080"/>
              <a:ext cx="6595200" cy="936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6240" y="2676240"/>
              <a:ext cx="826272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6520" y="4726080"/>
              <a:ext cx="9764280" cy="1008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8640" y="4229640"/>
              <a:ext cx="969120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144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152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912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436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824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372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728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24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724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2940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552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88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112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472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836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144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9984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276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796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452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9904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748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0972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852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092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468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776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304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76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360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892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604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256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916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4920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560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012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056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564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196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424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8960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020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988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808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620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264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56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588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028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556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868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20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348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04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20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396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184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1924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556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100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196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376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624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280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584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548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688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392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24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28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264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24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544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388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528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12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160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540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004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280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412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716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660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96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44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144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372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492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972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484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836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564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016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404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968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924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476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188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480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560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736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5996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088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308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344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756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440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804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360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884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616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028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628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424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092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26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432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888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600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640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08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580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576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5900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580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796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628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028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632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348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648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272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560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472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340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244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648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200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772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408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332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496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496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240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792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328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820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3944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044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664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28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352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768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52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08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04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28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492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348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12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692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2988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12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32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20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60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24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32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48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36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08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20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780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16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776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620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728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584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05A1-1809-4891-9599-A7361884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ircuit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EA AS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Chapter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031840" y="682560"/>
            <a:ext cx="50292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mbining Resi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connected in series, the total resistance 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s the sum of the individual resis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has the effect of increasing the resistance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connected in parallel, the total resistance is found by adding reciprocal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has the effect of reducing the total resistance of th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i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ries Circu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must be the same everywhere as there is only one path for electrons to 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oltage must be shared by all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116000" y="3976200"/>
            <a:ext cx="6814800" cy="2479680"/>
            <a:chOff x="1116000" y="3976200"/>
            <a:chExt cx="6814800" cy="2479680"/>
          </a:xfrm>
        </p:grpSpPr>
        <p:sp>
          <p:nvSpPr>
            <p:cNvPr id="589" name=""/>
            <p:cNvSpPr/>
            <p:nvPr/>
          </p:nvSpPr>
          <p:spPr>
            <a:xfrm>
              <a:off x="1116000" y="4319640"/>
              <a:ext cx="822960" cy="96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6832080" y="4407480"/>
              <a:ext cx="1051920" cy="77760"/>
              <a:chOff x="6832080" y="4407480"/>
              <a:chExt cx="1051920" cy="77760"/>
            </a:xfrm>
          </p:grpSpPr>
          <p:sp>
            <p:nvSpPr>
              <p:cNvPr id="591" name=""/>
              <p:cNvSpPr/>
              <p:nvPr/>
            </p:nvSpPr>
            <p:spPr>
              <a:xfrm>
                <a:off x="6832080" y="4407480"/>
                <a:ext cx="10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06400" y="4485240"/>
                <a:ext cx="54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878880" y="4955040"/>
              <a:ext cx="1051920" cy="77760"/>
              <a:chOff x="6878880" y="4955040"/>
              <a:chExt cx="1051920" cy="77760"/>
            </a:xfrm>
          </p:grpSpPr>
          <p:sp>
            <p:nvSpPr>
              <p:cNvPr id="594" name=""/>
              <p:cNvSpPr/>
              <p:nvPr/>
            </p:nvSpPr>
            <p:spPr>
              <a:xfrm>
                <a:off x="6878880" y="4955040"/>
                <a:ext cx="10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53200" y="5032800"/>
                <a:ext cx="54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 flipV="1">
              <a:off x="7403760" y="4485600"/>
              <a:ext cx="0" cy="46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1526040" y="397620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26040" y="3976560"/>
              <a:ext cx="58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36080" y="3976560"/>
              <a:ext cx="0" cy="4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49800" y="528840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49800" y="5591880"/>
              <a:ext cx="18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19680" y="5591880"/>
              <a:ext cx="26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355520" y="506520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6200000">
              <a:off x="4003200" y="4455720"/>
              <a:ext cx="3517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593720" y="4117320"/>
              <a:ext cx="2209320" cy="1296360"/>
              <a:chOff x="1593720" y="4117320"/>
              <a:chExt cx="2209320" cy="1296360"/>
            </a:xfrm>
          </p:grpSpPr>
          <p:sp>
            <p:nvSpPr>
              <p:cNvPr id="606" name=""/>
              <p:cNvSpPr/>
              <p:nvPr/>
            </p:nvSpPr>
            <p:spPr>
              <a:xfrm>
                <a:off x="1593720" y="4117320"/>
                <a:ext cx="11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593720" y="5413680"/>
                <a:ext cx="11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61960" y="4516560"/>
                <a:ext cx="14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4.5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45000" y="4117320"/>
                <a:ext cx="0" cy="39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45000" y="4815360"/>
                <a:ext cx="0" cy="59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938320" y="5613840"/>
              <a:ext cx="2494800" cy="842040"/>
              <a:chOff x="2938320" y="5613840"/>
              <a:chExt cx="2494800" cy="842040"/>
            </a:xfrm>
          </p:grpSpPr>
          <p:sp>
            <p:nvSpPr>
              <p:cNvPr id="612" name=""/>
              <p:cNvSpPr/>
              <p:nvPr/>
            </p:nvSpPr>
            <p:spPr>
              <a:xfrm>
                <a:off x="5433120" y="5613840"/>
                <a:ext cx="0" cy="59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38320" y="5613840"/>
                <a:ext cx="0" cy="59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48040" y="6087600"/>
                <a:ext cx="14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4.5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662360" y="6212160"/>
                <a:ext cx="76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2938320" y="6211800"/>
                <a:ext cx="814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 flipH="1">
              <a:off x="6206040" y="4166640"/>
              <a:ext cx="11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206040" y="5463360"/>
              <a:ext cx="11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627160" y="4615200"/>
              <a:ext cx="144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9.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6040" y="4166640"/>
              <a:ext cx="0" cy="39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06040" y="486504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i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47760" y="153360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rallel Circu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can split to go down either path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ach resistor gets all the energy the charge is carrying so voltage across each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020600" y="3827520"/>
            <a:ext cx="7254000" cy="2491560"/>
            <a:chOff x="1020600" y="3827520"/>
            <a:chExt cx="7254000" cy="2491560"/>
          </a:xfrm>
        </p:grpSpPr>
        <p:grpSp>
          <p:nvGrpSpPr>
            <p:cNvPr id="625" name=""/>
            <p:cNvGrpSpPr/>
            <p:nvPr/>
          </p:nvGrpSpPr>
          <p:grpSpPr>
            <a:xfrm>
              <a:off x="2076840" y="3827520"/>
              <a:ext cx="5374080" cy="2266560"/>
              <a:chOff x="2076840" y="3827520"/>
              <a:chExt cx="5374080" cy="226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6129720" y="3827520"/>
                <a:ext cx="132120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6506640" y="4757400"/>
                <a:ext cx="816120" cy="88560"/>
                <a:chOff x="6506640" y="4757400"/>
                <a:chExt cx="816120" cy="88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6506640" y="4757400"/>
                  <a:ext cx="81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719400" y="4845960"/>
                  <a:ext cx="425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6544080" y="5375880"/>
                <a:ext cx="813960" cy="88200"/>
                <a:chOff x="6544080" y="5375880"/>
                <a:chExt cx="813960" cy="8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6544080" y="5375880"/>
                  <a:ext cx="81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756480" y="5464080"/>
                  <a:ext cx="4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 flipV="1">
                <a:off x="6949440" y="4845960"/>
                <a:ext cx="0" cy="52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395800" y="4271760"/>
                <a:ext cx="450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99040" y="4271760"/>
                <a:ext cx="0" cy="47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"/>
              <p:cNvGrpSpPr/>
              <p:nvPr/>
            </p:nvGrpSpPr>
            <p:grpSpPr>
              <a:xfrm>
                <a:off x="2076840" y="4271760"/>
                <a:ext cx="637920" cy="1821960"/>
                <a:chOff x="2076840" y="4271760"/>
                <a:chExt cx="637920" cy="18219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076840" y="4658400"/>
                  <a:ext cx="637920" cy="109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2395800" y="4271760"/>
                  <a:ext cx="0" cy="38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412360" y="5751720"/>
                  <a:ext cx="0" cy="34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>
                <a:off x="2411640" y="6094080"/>
                <a:ext cx="147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844800" y="6094080"/>
                <a:ext cx="315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7003800" y="5464440"/>
                <a:ext cx="0" cy="6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3458160" y="4271760"/>
                <a:ext cx="637920" cy="1821960"/>
                <a:chOff x="3458160" y="4271760"/>
                <a:chExt cx="637920" cy="18219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458160" y="4658400"/>
                  <a:ext cx="637920" cy="109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3777120" y="4271760"/>
                  <a:ext cx="0" cy="38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793680" y="5751720"/>
                  <a:ext cx="0" cy="34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1020600" y="4276800"/>
              <a:ext cx="7254000" cy="2042280"/>
              <a:chOff x="1020600" y="4276800"/>
              <a:chExt cx="7254000" cy="204228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1020600" y="4426200"/>
                <a:ext cx="7254000" cy="1892880"/>
                <a:chOff x="1020600" y="4426200"/>
                <a:chExt cx="7254000" cy="189288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5811480" y="5841360"/>
                  <a:ext cx="2463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NZ" sz="1400" spc="-1" strike="noStrike">
                      <a:solidFill>
                        <a:srgbClr val="000000"/>
                      </a:solidFill>
                      <a:latin typeface="Arial"/>
                    </a:rPr>
                    <a:t>Paralle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1020600" y="4475520"/>
                  <a:ext cx="1341000" cy="1496520"/>
                  <a:chOff x="1020600" y="4475520"/>
                  <a:chExt cx="1341000" cy="1496520"/>
                </a:xfrm>
              </p:grpSpPr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1403280" y="4475520"/>
                    <a:ext cx="958320" cy="598680"/>
                    <a:chOff x="1403280" y="4475520"/>
                    <a:chExt cx="958320" cy="5986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1403280" y="447552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1403280" y="4475520"/>
                      <a:ext cx="0" cy="598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1020600" y="5072760"/>
                    <a:ext cx="862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1403280" y="5373000"/>
                    <a:ext cx="958320" cy="599040"/>
                    <a:chOff x="1403280" y="5373000"/>
                    <a:chExt cx="958320" cy="59904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1403280" y="597204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1403280" y="5373000"/>
                      <a:ext cx="0" cy="59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3708720" y="4475520"/>
                  <a:ext cx="1340280" cy="1496520"/>
                  <a:chOff x="3708720" y="4475520"/>
                  <a:chExt cx="1340280" cy="1496520"/>
                </a:xfrm>
              </p:grpSpPr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3708720" y="4475520"/>
                    <a:ext cx="957600" cy="598680"/>
                    <a:chOff x="3708720" y="4475520"/>
                    <a:chExt cx="957600" cy="59868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flipH="1">
                      <a:off x="3708720" y="4475520"/>
                      <a:ext cx="957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4666320" y="4475520"/>
                      <a:ext cx="0" cy="598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2" name=""/>
                  <p:cNvSpPr/>
                  <p:nvPr/>
                </p:nvSpPr>
                <p:spPr>
                  <a:xfrm flipH="1">
                    <a:off x="4186440" y="5072760"/>
                    <a:ext cx="86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3708720" y="5373000"/>
                    <a:ext cx="957600" cy="599040"/>
                    <a:chOff x="3708720" y="5373000"/>
                    <a:chExt cx="957600" cy="59904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>
                      <a:off x="3708720" y="5972040"/>
                      <a:ext cx="957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V="1">
                      <a:off x="4666320" y="5373000"/>
                      <a:ext cx="0" cy="59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6876360" y="4426200"/>
                  <a:ext cx="1341000" cy="1496520"/>
                  <a:chOff x="6876360" y="4426200"/>
                  <a:chExt cx="1341000" cy="14965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6876360" y="4426200"/>
                    <a:ext cx="958320" cy="598680"/>
                    <a:chOff x="6876360" y="4426200"/>
                    <a:chExt cx="958320" cy="5986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>
                      <a:off x="6876360" y="442620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834680" y="4426200"/>
                      <a:ext cx="0" cy="598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"/>
                  <p:cNvSpPr/>
                  <p:nvPr/>
                </p:nvSpPr>
                <p:spPr>
                  <a:xfrm flipH="1">
                    <a:off x="7354080" y="5023440"/>
                    <a:ext cx="862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6876360" y="5323680"/>
                    <a:ext cx="958320" cy="599040"/>
                    <a:chOff x="6876360" y="5323680"/>
                    <a:chExt cx="958320" cy="59904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>
                      <a:off x="6876360" y="592272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V="1">
                      <a:off x="7834680" y="5323680"/>
                      <a:ext cx="0" cy="59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74" name=""/>
              <p:cNvSpPr/>
              <p:nvPr/>
            </p:nvSpPr>
            <p:spPr>
              <a:xfrm flipH="1">
                <a:off x="5627160" y="4276800"/>
                <a:ext cx="57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64120" y="437544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03400" y="582192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39520" y="4326120"/>
                <a:ext cx="11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4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57080" y="4326120"/>
                <a:ext cx="67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2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37320" y="5771520"/>
                <a:ext cx="96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2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457200" y="1600200"/>
          <a:ext cx="8229240" cy="4705200"/>
        </p:xfrm>
        <a:graphic>
          <a:graphicData uri="http://schemas.openxmlformats.org/drawingml/2006/table">
            <a:tbl>
              <a:tblPr/>
              <a:tblGrid>
                <a:gridCol w="2962800"/>
                <a:gridCol w="2688120"/>
                <a:gridCol w="2578320"/>
              </a:tblGrid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ternal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en components like batteries and meters have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means that even though a battery is supposed to supply 9V for example, what you get across it’s terminals may be less if you try and draw a large current from it. The battery’s resistance uses some of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tential Di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d to control voltage of parts of a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rks great as long as the load resistor is large compared to divider resistors.  (Why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/(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x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14360" y="4633920"/>
            <a:ext cx="8351280" cy="1847880"/>
            <a:chOff x="414360" y="4633920"/>
            <a:chExt cx="8351280" cy="1847880"/>
          </a:xfrm>
        </p:grpSpPr>
        <p:sp>
          <p:nvSpPr>
            <p:cNvPr id="687" name=""/>
            <p:cNvSpPr/>
            <p:nvPr/>
          </p:nvSpPr>
          <p:spPr>
            <a:xfrm>
              <a:off x="414360" y="4633920"/>
              <a:ext cx="41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4360" y="6481800"/>
              <a:ext cx="41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88200" y="4633920"/>
              <a:ext cx="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0240" y="4633920"/>
              <a:ext cx="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44840" y="4696920"/>
              <a:ext cx="489600" cy="70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44840" y="5652720"/>
              <a:ext cx="489600" cy="70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88200" y="6481800"/>
              <a:ext cx="30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88200" y="5526000"/>
              <a:ext cx="30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89640" y="5526000"/>
              <a:ext cx="0" cy="9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28520" y="5334840"/>
              <a:ext cx="982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05760" y="4824720"/>
              <a:ext cx="982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83720" y="5843520"/>
              <a:ext cx="110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4560" y="5908320"/>
              <a:ext cx="1351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ower = Energy/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owever V=E/Q &amp; I=Q/t so combining th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 = VxI = E/QxQ/t = E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ower is measured in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atts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y substituting Ohm’s Law into the power equation, it can also be writte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=I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  or P=V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is shows that the higher the current the more power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issipate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as h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lectrical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mA is the maximum safe current the human body can 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0mA probably 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(dry skin)=10k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10V applied, I=1mA (sa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240V applied I=24mA (hm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 (wet skin)=1.2k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240V applied I=200mA (R.I.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flow of electric charge is called an electric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I is measured by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rat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at which electric charg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= charge/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 = Q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nit: Ampere (Amp)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1A=1Cs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direction is defined as the direction of positive charg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urrent will only flow continuously if there is a close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irc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get the charges to flow, they need to experience the force of an electric fi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set up a field, we apply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voltag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otential differenc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o the circ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voltage V is a measure of the difference in potential energy of the charge between two points in a circ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oltage=Energy/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=E/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 1V=1JC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voltage can be positive or negative. ie energy gain or energy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materials have a certain amount of electrical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sistance 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nhibits the flow of charge and uses up the charge’s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material with very high R is called an ins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material with very low R is called a condu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measured in Ohms 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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directly proportional to Length. Longer = more resistanc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inversely proportional to the cross-sectional area. Thicker = less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directly proportional to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sistivity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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f th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summary: R=L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hm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urrent, voltage and resistance are linked by Ohm’s Law: V=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applies only to conductors that have constant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amples of non-Ohmic conductors include diodes, lamps, thermistors and LD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 components are linked one after the other they are in s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y are linked alongside each other they are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31880" y="3827520"/>
            <a:ext cx="8064000" cy="2142720"/>
            <a:chOff x="731880" y="3827520"/>
            <a:chExt cx="8064000" cy="2142720"/>
          </a:xfrm>
        </p:grpSpPr>
        <p:grpSp>
          <p:nvGrpSpPr>
            <p:cNvPr id="540" name=""/>
            <p:cNvGrpSpPr/>
            <p:nvPr/>
          </p:nvGrpSpPr>
          <p:grpSpPr>
            <a:xfrm>
              <a:off x="731880" y="3827520"/>
              <a:ext cx="8064000" cy="1609920"/>
              <a:chOff x="731880" y="3827520"/>
              <a:chExt cx="8064000" cy="1609920"/>
            </a:xfrm>
          </p:grpSpPr>
          <p:sp>
            <p:nvSpPr>
              <p:cNvPr id="541" name=""/>
              <p:cNvSpPr/>
              <p:nvPr/>
            </p:nvSpPr>
            <p:spPr>
              <a:xfrm>
                <a:off x="7920360" y="3827520"/>
                <a:ext cx="8755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731880" y="4085640"/>
                <a:ext cx="3502080" cy="1351800"/>
                <a:chOff x="731880" y="4085640"/>
                <a:chExt cx="3502080" cy="13518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31880" y="4344840"/>
                  <a:ext cx="423000" cy="73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3670200" y="4411800"/>
                  <a:ext cx="540360" cy="59040"/>
                  <a:chOff x="3670200" y="4411800"/>
                  <a:chExt cx="540360" cy="590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3670200" y="4411800"/>
                    <a:ext cx="54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810960" y="4470840"/>
                    <a:ext cx="281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3693600" y="4826520"/>
                  <a:ext cx="540360" cy="59040"/>
                  <a:chOff x="3693600" y="4826520"/>
                  <a:chExt cx="540360" cy="5904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3693600" y="4826520"/>
                    <a:ext cx="54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834360" y="4885560"/>
                    <a:ext cx="281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 flipV="1">
                  <a:off x="3963960" y="4470480"/>
                  <a:ext cx="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943200" y="4085640"/>
                  <a:ext cx="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943200" y="4086000"/>
                  <a:ext cx="298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928680" y="4086000"/>
                  <a:ext cx="0" cy="31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955080" y="5078160"/>
                  <a:ext cx="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55080" y="5307480"/>
                  <a:ext cx="975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635920" y="5307480"/>
                  <a:ext cx="136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3999240" y="4885200"/>
                  <a:ext cx="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16200000">
                  <a:off x="2172960" y="4722480"/>
                  <a:ext cx="266400" cy="116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8170200" y="4450680"/>
                <a:ext cx="541440" cy="59400"/>
                <a:chOff x="8170200" y="4450680"/>
                <a:chExt cx="541440" cy="594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8170200" y="4450680"/>
                  <a:ext cx="54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311320" y="451008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8194680" y="4865400"/>
                <a:ext cx="540000" cy="59400"/>
                <a:chOff x="8194680" y="4865400"/>
                <a:chExt cx="540000" cy="594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8194680" y="4865400"/>
                  <a:ext cx="5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335440" y="4924800"/>
                  <a:ext cx="28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8464680" y="4510080"/>
                <a:ext cx="0" cy="35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43920" y="4124880"/>
                <a:ext cx="298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124880"/>
                <a:ext cx="0" cy="31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5232240" y="4124880"/>
                <a:ext cx="423360" cy="1221120"/>
                <a:chOff x="5232240" y="4124880"/>
                <a:chExt cx="423360" cy="1221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5232240" y="4384080"/>
                  <a:ext cx="423360" cy="732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V="1">
                  <a:off x="5443920" y="4124880"/>
                  <a:ext cx="0" cy="25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454720" y="5117040"/>
                  <a:ext cx="0" cy="22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55080" y="5346360"/>
                <a:ext cx="9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04040" y="5346360"/>
                <a:ext cx="20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8500320" y="4924440"/>
                <a:ext cx="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6148800" y="4124880"/>
                <a:ext cx="423360" cy="1221120"/>
                <a:chOff x="6148800" y="4124880"/>
                <a:chExt cx="423360" cy="12211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148800" y="4384080"/>
                  <a:ext cx="423360" cy="732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6360480" y="4124880"/>
                  <a:ext cx="0" cy="25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371280" y="5117040"/>
                  <a:ext cx="0" cy="22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1485000" y="5492160"/>
              <a:ext cx="6596280" cy="478080"/>
              <a:chOff x="1485000" y="5492160"/>
              <a:chExt cx="6596280" cy="478080"/>
            </a:xfrm>
          </p:grpSpPr>
          <p:sp>
            <p:nvSpPr>
              <p:cNvPr id="580" name=""/>
              <p:cNvSpPr/>
              <p:nvPr/>
            </p:nvSpPr>
            <p:spPr>
              <a:xfrm>
                <a:off x="1485000" y="5531760"/>
                <a:ext cx="195480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400" spc="-1" strike="noStrike">
                    <a:solidFill>
                      <a:srgbClr val="000000"/>
                    </a:solidFill>
                    <a:latin typeface="Arial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618520" y="5492160"/>
                <a:ext cx="2462760" cy="47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400" spc="-1" strike="noStrike">
                    <a:solidFill>
                      <a:srgbClr val="000000"/>
                    </a:solidFill>
                    <a:latin typeface="Arial"/>
                  </a:rPr>
                  <a:t>Parall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58720" y="113472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mmeters measure curr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nected in series so that all the charge flows throug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w R so that they do not use up the energy of the char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  CAREFUL – Ammeters are easy to da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oltmeters measure vol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nected in parallel with the component they are measuring the voltage drop/gain a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igh R so that they do not draw too much current away from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07:45:01Z</dcterms:created>
  <dc:creator> Maree</dc:creator>
  <dc:description/>
  <dc:language>en-US</dc:language>
  <cp:lastModifiedBy>Administrator</cp:lastModifiedBy>
  <dcterms:modified xsi:type="dcterms:W3CDTF">2005-07-26T23:21:16Z</dcterms:modified>
  <cp:revision>17</cp:revision>
  <dc:subject/>
  <dc:title>Electri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3445944</vt:r8>
  </property>
  <property fmtid="{D5CDD505-2E9C-101B-9397-08002B2CF9AE}" pid="3" name="_AuthorEmail">
    <vt:lpwstr>garyvercoe@paradise.net.nz</vt:lpwstr>
  </property>
  <property fmtid="{D5CDD505-2E9C-101B-9397-08002B2CF9AE}" pid="4" name="_AuthorEmailDisplayName">
    <vt:lpwstr>Maree &amp; Gary</vt:lpwstr>
  </property>
  <property fmtid="{D5CDD505-2E9C-101B-9397-08002B2CF9AE}" pid="5" name="_EmailSubject">
    <vt:lpwstr>electrostatics</vt:lpwstr>
  </property>
  <property fmtid="{D5CDD505-2E9C-101B-9397-08002B2CF9AE}" pid="6" name="_ReviewingToolsShownOnce">
    <vt:lpwstr/>
  </property>
</Properties>
</file>